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73A9-7191-4BE2-A0FF-2742DCBCC9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10CB-9F3C-406C-878C-02AA244B4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EC39A-F01F-4242-B77F-7374CF4FAB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3321-CCC4-4A7E-94BF-AAED649AB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4CDB5-14D3-4C3A-875E-E10EFE428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1060-3A90-423E-8158-C82A435BE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A697-3239-4238-80DA-CB0BE892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54633-4922-4B48-93C1-57833B26E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13CA3-12EB-48F7-851B-FA52E35EB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06332-5A89-4DFE-BB8A-BCE52DABB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3F5BB-C13B-4ADE-98C8-81EB509AB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B4BD6-5C52-42D7-A5DD-78CD01689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CFD21-B27C-4320-BBFA-BA84555249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Related SWRadi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ork so far:  formalizing the S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requiremen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efore continu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ed regularly attending liaison from JPO/other to bring approved information to the ta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program participants respons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curity Related SWRadio Wor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urity for cod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ity APIs for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vefor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mposition (reducing the monolith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dn’l compliance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urrent/Emerging Secur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rvey past security effo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sting specific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ccess contr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ssage-oriented middlewar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ault-toler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ve Chz. has a W/P describing the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ailed spec ef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ransport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lications for ad hoc nets, part. rou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sider these in light of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pecifying real-time factors al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ving with limited re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cularly failure mod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 hoc n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hanced degree of contr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gmt features long overd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BC RFPs (Draft Aug 0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 management (generation, distribution, storage, lifecycle, certificates, etc. including group keying support)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ypto algorithm selection &amp; managemen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ure audi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mission security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BC RFPs (beyond Aug 04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077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ity policy distribution &amp; management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hentication of and by use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cess control including support for MILS/MLS/other A/C architectur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usion detection and reporting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neral encode/decod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/policy/data integrity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ermeasure integration and selec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repudiation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ure packaging/change control/CM of app/platform/integration of both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eneral Security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formance with other security frameworks like EAL evaluations and the Common Criter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1T15:23:44Z</dcterms:created>
  <dc:creator>Brent Whitmore</dc:creator>
  <dc:description/>
  <dc:language>en-US</dc:language>
  <cp:lastModifiedBy>KEVIN RICHARDSON</cp:lastModifiedBy>
  <dcterms:modified xsi:type="dcterms:W3CDTF">2004-06-23T16:05:33Z</dcterms:modified>
  <cp:revision>12</cp:revision>
  <dc:subject/>
  <dc:title>Possible Platform Security Requirements</dc:title>
</cp:coreProperties>
</file>